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511C-5ACA-48DF-8AB9-0D72D237C08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A288-E5BA-475B-81A4-7207EB0AFFE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68A2-3C75-4CA8-A582-A374827CF68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kvhs.nbed.nb.ca/gallant/biology/photosynth_summary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9CE7-A429-462E-9AE5-76458738E26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9A05-B736-4A5D-9F5A-7B5D3B54CAE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F5C3-831C-4160-A450-905094CBF6C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163.16.28.248/bio/activelearner/08/ch8c2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iws.collin.edu/biopage/faculty/mcculloch/1406/outlines/chapter%2010/chap10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il.mahidol.ac.th/e-media/electrochemistry/web/pictures/nad.gif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E4F6-F7C9-4C61-A552-A9749EC3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ECBD-DC7F-4B8F-AF9F-9050083C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FE56-F86C-497F-8C55-4E17670F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BB40-8685-458A-AF94-A1999911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4A5E-4270-4C0B-97B3-8FB619BB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7A79-29BA-48BE-B6C5-A3E879C2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5D09-5E9B-40BC-A935-EFAED033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ED73-E12E-4CB2-8C35-467C9E6A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E503-77E9-4C9B-B21A-A4565693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D83B-CF30-4776-AC77-6CDB8F5C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B049-76E0-432D-9D1F-778A32A2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729E-B8C2-4CF5-81F4-7722A02B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4FF3-1CE2-4DFE-AC73-371D44221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ic Electro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cell movie on Electron Transport Chain in Photosynthe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http://vcell.ndsu.edu/animations/photosynthesis/movie-flash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Graw-Hill Ryerson narrated animation &amp; self-quiz…try it!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http://highered.mcgraw-hill.com/sites/0073383198/student_view0/chapter3/animation_quiz_-_photosynthetic_electron_transport_and_atp_synthesi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353880" y="69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citation of electr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Photosystem II (P680), which is transferred to primary electron ac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(non-cyclic) electron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osmosis (ATP synthe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Rectangle 3" descr=""/>
          <p:cNvPicPr/>
          <p:nvPr/>
        </p:nvPicPr>
        <p:blipFill>
          <a:blip r:embed="rId1"/>
          <a:stretch/>
        </p:blipFill>
        <p:spPr>
          <a:xfrm>
            <a:off x="766800" y="1600200"/>
            <a:ext cx="761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visit the Khan Academ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ntastic explanation of electron transport in photosynthesis (20 minutes lo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http://www.khanacademy.org/video/photosynthesis---light-reactions-and-photophosphorylation?playlist=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cyclic Electro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&amp; NAD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inamide adenine dinucleotide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enzyme used in anabolic reactions such as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Rectangle 3" descr=""/>
          <p:cNvPicPr/>
          <p:nvPr/>
        </p:nvPicPr>
        <p:blipFill>
          <a:blip r:embed="rId1"/>
          <a:stretch/>
        </p:blipFill>
        <p:spPr>
          <a:xfrm>
            <a:off x="4648320" y="1641600"/>
            <a:ext cx="403848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2:53:26Z</dcterms:created>
  <dc:creator>james</dc:creator>
  <dc:description/>
  <dc:language>en-US</dc:language>
  <cp:lastModifiedBy>rubina khan</cp:lastModifiedBy>
  <dcterms:modified xsi:type="dcterms:W3CDTF">2012-11-01T09:18:48Z</dcterms:modified>
  <cp:revision>99</cp:revision>
  <dc:subject/>
  <dc:title>Slide 1</dc:title>
</cp:coreProperties>
</file>